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C2D6-D397-4753-9860-91486C23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8C4-A01A-4A5B-9471-2A2D2D8C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B6A-2F1C-4012-A3CB-EE5ECD0E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AB5-FAFA-4D81-99EF-EB85712E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FF2F-C1D4-4210-AF65-D03CF836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6D1-608C-4EBD-B0AC-7C9D8517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5F85-055C-4366-A0AA-983054F2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B89-B93D-4365-A3A6-AF7DB51B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B6C-A709-4F2E-A2E5-00F14935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844-2709-45C4-807C-E2478137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2351-B54E-467F-82D4-DE92A70D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DD7-82DA-42AA-A1AA-2182DAC8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944C-973E-4DB6-ABDC-92542DAD9846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Copyright © 2013, Oracle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 1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Project and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Line 6"/>
          <p:cNvSpPr/>
          <p:nvPr/>
        </p:nvSpPr>
        <p:spPr>
          <a:xfrm>
            <a:off x="1828800" y="449568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E:\Temp\VVSU\Java\aca_wht\academy_wht.bmp"/>
          <p:cNvPicPr/>
          <p:nvPr/>
        </p:nvPicPr>
        <p:blipFill>
          <a:blip r:embed="rId1"/>
          <a:stretch/>
        </p:blipFill>
        <p:spPr>
          <a:xfrm>
            <a:off x="304920" y="304920"/>
            <a:ext cx="1993680" cy="622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ttp://www.vvsu.ru/photos/F7422167_3C18_4575_883E_8A682F0EB6D7_94x199.jpg"/>
          <p:cNvPicPr/>
          <p:nvPr/>
        </p:nvPicPr>
        <p:blipFill>
          <a:blip r:embed="rId2"/>
          <a:stretch/>
        </p:blipFill>
        <p:spPr>
          <a:xfrm>
            <a:off x="533520" y="762120"/>
            <a:ext cx="477720" cy="1011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Double Jeopardy 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bject 4"/>
          <p:cNvSpPr/>
          <p:nvPr/>
        </p:nvSpPr>
        <p:spPr>
          <a:xfrm>
            <a:off x="792000" y="1919160"/>
            <a:ext cx="7902720" cy="35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all 15 questions have been attempted, the teams can play the Double Jeopardy rou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round, the amounts range from $200 to $1,000. This is double what the values were in the Jeopardy rou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y is the same in this round as it was in the previous round, except there are three new categor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two player/team game, the team that scores the most points w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Double Jeopardy Roun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bject 4"/>
          <p:cNvSpPr/>
          <p:nvPr/>
        </p:nvSpPr>
        <p:spPr>
          <a:xfrm>
            <a:off x="2436840" y="1836720"/>
            <a:ext cx="419256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bject 6"/>
          <p:cNvSpPr/>
          <p:nvPr/>
        </p:nvSpPr>
        <p:spPr>
          <a:xfrm>
            <a:off x="2789280" y="2908440"/>
            <a:ext cx="3565440" cy="3481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Final Jeopardy 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bject 4"/>
          <p:cNvSpPr/>
          <p:nvPr/>
        </p:nvSpPr>
        <p:spPr>
          <a:xfrm>
            <a:off x="0" y="4896000"/>
            <a:ext cx="9144000" cy="9792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bject 5"/>
          <p:cNvSpPr/>
          <p:nvPr/>
        </p:nvSpPr>
        <p:spPr>
          <a:xfrm>
            <a:off x="792000" y="1919160"/>
            <a:ext cx="7898040" cy="39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tie occurs, the Final Jeopardy round is played to determine the winn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round, one uncategorized question is displayed and each team places a point wager on the answer they believe is corr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aximum wager of a team is their total points acquired thus far in the game. Each team that correctly answers the question will add the points wagered to their total sc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am with the most points w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Final Jeopardy Roun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bject 4"/>
          <p:cNvSpPr/>
          <p:nvPr/>
        </p:nvSpPr>
        <p:spPr>
          <a:xfrm>
            <a:off x="822240" y="2144880"/>
            <a:ext cx="3432240" cy="21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bject 5"/>
          <p:cNvSpPr/>
          <p:nvPr/>
        </p:nvSpPr>
        <p:spPr>
          <a:xfrm>
            <a:off x="4498920" y="2136600"/>
            <a:ext cx="4021200" cy="182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bject 6"/>
          <p:cNvSpPr/>
          <p:nvPr/>
        </p:nvSpPr>
        <p:spPr>
          <a:xfrm>
            <a:off x="792000" y="1919160"/>
            <a:ext cx="789480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ject will be created in Java using NetBe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an inventory program that can be used for a range of different products (cds, dvds, software, etc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ach part, build upon the last part so that both the old and new requirements are m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several parts to the project. The following slides offer an overview of the p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 the practice for this lesson for the complete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6"/>
          <p:cNvSpPr/>
          <p:nvPr/>
        </p:nvSpPr>
        <p:spPr>
          <a:xfrm>
            <a:off x="792000" y="1920960"/>
            <a:ext cx="788040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oose a product that lends itself to an inventory (for example, products in your home, school, or workplace: office supplies; music CDs; DVD movies; or softwar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Product cla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two constructo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rite getter/accessor and setter/mutator methods for four instance vari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ride the toString() method from the object class that will show a description of each object that includes the variable valu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Java main class called ProductTester that creates and initializes six Product obj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ProductTester, display the product number, the name of the product, the number of units in stock, and the price of each un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bject 5"/>
          <p:cNvSpPr/>
          <p:nvPr/>
        </p:nvSpPr>
        <p:spPr>
          <a:xfrm>
            <a:off x="792000" y="1920960"/>
            <a:ext cx="774396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a Scanner to ProductTester to ask the user if they would like to add produ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method in the Product class that will calculate the value of the each inventory item, using the quantity on hand and pr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play the information in ProductTester for these products as was in Part 1. In addition, include the inventory value for each product by modifying the toString() method in Produ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bject 5"/>
          <p:cNvSpPr/>
          <p:nvPr/>
        </p:nvSpPr>
        <p:spPr>
          <a:xfrm>
            <a:off x="792000" y="1920960"/>
            <a:ext cx="786312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ProductTester so the application can handle multiple items using an arr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a method in the Product class that will calculate the value of the each inventory item, using the quantity on hand and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 the information in ProductTester for these products as was in Part 1. In addition, include the inventory value for each product by modifying the toString() method in Produc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Comparable Interface to create another method in the Product class to sort the array items by the name of the produc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ject 4"/>
          <p:cNvSpPr/>
          <p:nvPr/>
        </p:nvSpPr>
        <p:spPr>
          <a:xfrm>
            <a:off x="792000" y="1920960"/>
            <a:ext cx="77425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the Inventory Program by creating a subclass of the product class that uses one additional unique feature of the product you chose (for the DVDs subclass, you could use movie title, for exampl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subclass, create a method to calculate the value of the inventory of a product with the same name as the method previously created for the product class. The subclass method should also add a 5% restocking fee to the value of the inventory of that produ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the output to display this additional feature you have chosen and the restocking fe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bject 5"/>
          <p:cNvSpPr/>
          <p:nvPr/>
        </p:nvSpPr>
        <p:spPr>
          <a:xfrm>
            <a:off x="792000" y="1919160"/>
            <a:ext cx="7710480" cy="38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r final project will include a presentation which should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ion and high level outline of what you are presen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the project requirements affected your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s and ans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bject 4"/>
          <p:cNvSpPr/>
          <p:nvPr/>
        </p:nvSpPr>
        <p:spPr>
          <a:xfrm>
            <a:off x="792000" y="1919160"/>
            <a:ext cx="701532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lesson covers the following topic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written documentation for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Rehear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bject 5"/>
          <p:cNvSpPr/>
          <p:nvPr/>
        </p:nvSpPr>
        <p:spPr>
          <a:xfrm>
            <a:off x="792000" y="1919160"/>
            <a:ext cx="7415280" cy="12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sure to sufficiently rehearse your presentation and demonst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75320"/>
            <a:ext cx="822960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Documentation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ject will include written documentation. This document should include the following sec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view: Describe the problem and mention the development tool and most important featu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: Explain the high-level design of your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ing: Describe how you tested your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es: Explain any challenges you encounte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sion: Summarize the project including what you learned from working on this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Presentation Rubr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bject 5"/>
          <p:cNvSpPr/>
          <p:nvPr/>
        </p:nvSpPr>
        <p:spPr>
          <a:xfrm>
            <a:off x="0" y="4896000"/>
            <a:ext cx="9144000" cy="9792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bject 6"/>
          <p:cNvSpPr/>
          <p:nvPr/>
        </p:nvSpPr>
        <p:spPr>
          <a:xfrm>
            <a:off x="792000" y="1919160"/>
            <a:ext cx="787716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r project will be evaluated using a rubric that evaluates your work against the following criter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imation/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ation/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bject 4"/>
          <p:cNvSpPr/>
          <p:nvPr/>
        </p:nvSpPr>
        <p:spPr>
          <a:xfrm>
            <a:off x="792000" y="1919160"/>
            <a:ext cx="701532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lesson, you should have learned how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written documentation for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ting Started on the Final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bject 4"/>
          <p:cNvSpPr/>
          <p:nvPr/>
        </p:nvSpPr>
        <p:spPr>
          <a:xfrm>
            <a:off x="0" y="2936880"/>
            <a:ext cx="9144000" cy="9810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bject 5"/>
          <p:cNvSpPr/>
          <p:nvPr/>
        </p:nvSpPr>
        <p:spPr>
          <a:xfrm>
            <a:off x="792000" y="1919160"/>
            <a:ext cx="7647120" cy="39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pply your knowledge of NetBeans and Java and fine tune your presentation skills, you will work on a final class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 the following project descriptions and choose a project to develo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in groups or individually, choose a project that meets your interests and skill lev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the end of the project, you will give an oral presentation including visual aids to demonstrate your project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ject 4"/>
          <p:cNvSpPr/>
          <p:nvPr/>
        </p:nvSpPr>
        <p:spPr>
          <a:xfrm>
            <a:off x="792000" y="1919160"/>
            <a:ext cx="754092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ject will be developed in Java using NetBe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eopardy! is an American television quiz show featuring trivia in a variety of subjects including: history, literature, the arts, pop culture, science, sports, and geograph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bject 5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ject 6"/>
          <p:cNvSpPr/>
          <p:nvPr/>
        </p:nvSpPr>
        <p:spPr>
          <a:xfrm>
            <a:off x="2679840" y="4270320"/>
            <a:ext cx="3786120" cy="1384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General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ject 5"/>
          <p:cNvSpPr/>
          <p:nvPr/>
        </p:nvSpPr>
        <p:spPr>
          <a:xfrm>
            <a:off x="792000" y="1919160"/>
            <a:ext cx="7713720" cy="32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project, create a variation on the television g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al is to answer the most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ame can be played as a quiz for one person or as a game between two players or te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yer or team that accumulates the most points is the winn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derator should keep track of the points for each t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 Round Categ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bject 5"/>
          <p:cNvSpPr/>
          <p:nvPr/>
        </p:nvSpPr>
        <p:spPr>
          <a:xfrm>
            <a:off x="792000" y="1919160"/>
            <a:ext cx="746604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categories of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five questions in each category, each worth 100 to 500 p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0 point questions are the easi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questions get progressively harder as the point values incre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bject 3"/>
          <p:cNvSpPr/>
          <p:nvPr/>
        </p:nvSpPr>
        <p:spPr>
          <a:xfrm>
            <a:off x="792000" y="885960"/>
            <a:ext cx="8056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ject 1: Jeopardy Round Categories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ject 4"/>
          <p:cNvSpPr/>
          <p:nvPr/>
        </p:nvSpPr>
        <p:spPr>
          <a:xfrm>
            <a:off x="792000" y="1919160"/>
            <a:ext cx="717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re is an example of how the categories could lo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bject 6"/>
          <p:cNvSpPr/>
          <p:nvPr/>
        </p:nvSpPr>
        <p:spPr>
          <a:xfrm>
            <a:off x="2440080" y="2463840"/>
            <a:ext cx="4265640" cy="3908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 Round Function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ject 8"/>
          <p:cNvSpPr/>
          <p:nvPr/>
        </p:nvSpPr>
        <p:spPr>
          <a:xfrm>
            <a:off x="6553080" y="6447240"/>
            <a:ext cx="2133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46240" indent="-220680" algn="r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051F-2180-4551-837B-DE2E63F8A527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Copyright © 2013, Oracle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bject 5"/>
          <p:cNvSpPr/>
          <p:nvPr/>
        </p:nvSpPr>
        <p:spPr>
          <a:xfrm>
            <a:off x="792000" y="1919160"/>
            <a:ext cx="7558200" cy="40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player/team clicks a cell in the grid (“I’ll take operators for 100 points.”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question is displayed. The moderator clicks to display the answ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answer is correct, the points are added to the player/team sc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answer is incorrect, the team loses that amount. The other player/team now gets to choose a cell in the gr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ject 6"/>
          <p:cNvSpPr/>
          <p:nvPr/>
        </p:nvSpPr>
        <p:spPr>
          <a:xfrm>
            <a:off x="0" y="5873760"/>
            <a:ext cx="9144000" cy="984240"/>
          </a:xfrm>
          <a:custGeom>
            <a:avLst/>
            <a:gdLst/>
            <a:ahLst/>
            <a:rect l="l" t="t" r="r" b="b"/>
            <a:pathLst>
              <a:path w="9144000" h="984250">
                <a:moveTo>
                  <a:pt x="0" y="983741"/>
                </a:moveTo>
                <a:lnTo>
                  <a:pt x="9143619" y="983741"/>
                </a:lnTo>
                <a:lnTo>
                  <a:pt x="9143619" y="0"/>
                </a:lnTo>
                <a:lnTo>
                  <a:pt x="0" y="0"/>
                </a:lnTo>
                <a:lnTo>
                  <a:pt x="0" y="98374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Question and Answer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bject 4"/>
          <p:cNvSpPr/>
          <p:nvPr/>
        </p:nvSpPr>
        <p:spPr>
          <a:xfrm>
            <a:off x="1592280" y="2076480"/>
            <a:ext cx="5958000" cy="270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00:39:52Z</dcterms:created>
  <dc:creator/>
  <dc:description/>
  <dc:language>en-US</dc:language>
  <cp:lastModifiedBy>vgrinyak</cp:lastModifiedBy>
  <dcterms:modified xsi:type="dcterms:W3CDTF">2013-10-01T22:59:16Z</dcterms:modified>
  <cp:revision>3</cp:revision>
  <dc:subject/>
  <dc:title>Lesson 14 Final Project an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3-10-02T00:00:00Z</vt:filetime>
  </property>
  <property fmtid="{D5CDD505-2E9C-101B-9397-08002B2CF9AE}" pid="3" name="LastSaved">
    <vt:filetime>2013-10-01T00:00:00Z</vt:filetime>
  </property>
</Properties>
</file>